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68B-93D2-4836-A52D-1F7C6386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EA6-6336-4866-8BB6-DC3037E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936B1-D695-468B-B457-B5E2650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28A43-074D-4665-9900-2F3AD2B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721B6-C368-4088-B955-7AF3D28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166F-2A4C-4F9D-8142-1BFFC69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E9F9-EDD6-4B31-9043-51D214B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61C0B-65C7-43B4-AB60-93E6183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74D13-3314-47D7-A776-55F35D9E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91204-2186-4CBB-BE4B-0A21495A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731B-4E2B-4B96-A050-500F2DB8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1E5D8-7815-4352-A162-23FF0814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FEC-E03B-47E6-BB25-64B5166B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29C5B-7A53-4148-A32F-D6AD8084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CBB1C-285A-4251-B4E1-FFC0408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0F59-DBD9-4071-8A26-B38080B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3BAA2-8A15-4F58-B7F5-9B96474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D2ACF-C71C-4790-BE32-149D568A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3F66C-C60D-45ED-B0D1-D2509475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DD1B9-BD10-4B97-ABFA-A2BB6C4C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EEB54-ECD6-44A7-8FE1-9D81F3DE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AB332-8FFF-4256-8336-80A6990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545D8-9721-4F9A-9101-D4F66BE3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4FC-4DCF-47AE-BC29-FE9DF67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5A61E-BB0B-471B-A0A7-8A3FDFDB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C993F-C9EA-408E-BCA3-57E01E66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4338-5775-4914-B8E5-1EE8B22F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1A9E-AF30-431D-BFA0-5E6DB126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9567-F948-4E2A-A230-316F1A9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4685-B1A2-4C89-8026-783857C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1BA82-B56F-439A-A3A0-85601A8C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C65F-E6D1-4CFE-AD77-1C296BD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03DEF-0566-4044-8142-03A9455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3E23-139C-4BA1-AC71-B988EA9B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472B-25AC-40E4-8F1A-9A7A5203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DF71D-DC82-4B90-A94D-B7BC20E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F89B4-D94A-4C01-9318-B1222F7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6218-8398-4758-A1BD-64AEB83C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30207-D112-429A-A757-787E7C6F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5DA03-FBC1-4676-A9C3-05E9A432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80C87-9717-433B-9294-F6A07D9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06C6C-C413-4E9A-8B59-9471CDC1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5A5A5-716E-4CF9-B391-49AECDA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5627A-5E11-4683-8D1E-158532F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A1657-F7ED-4F53-B69A-83F9E9D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6B7-9BA5-4BD5-8436-39E36BF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C06BF-9820-45FD-8880-D08DE05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72785-B717-47DB-8FEE-5EC2F8C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2DFF5-55FB-4052-90E3-146046E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F5F67-4680-4D50-993F-36477C77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5C6F2-CD2A-43CE-9F93-F1952E54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023C1-96D4-4CA6-9782-08DCC66C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3BCC4-DDD5-4013-BC10-999180DC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F1169-5DF1-44C1-8849-CE62EB2E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94E9A-9A78-47B3-9367-F3BE1CB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F4CD2-678F-43DE-AAAB-0A5C996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F12-1A10-4A94-886C-8B8C2DA9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8D612-FC91-4E20-B82C-2FBC2FA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AFF75-3080-4E86-83D6-35DB44E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E2B89-CDF8-4001-AB82-04E8F65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74E72-DA62-4166-9DBA-DA31777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8A238-1E29-4C3F-AE7E-303A890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732D3-AB0A-4E3F-AE59-733C2AE9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6BFF7-4442-4A21-B5F5-4EF856F4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A5348-9665-4472-83A7-314A9B97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B4766-C0E5-4673-81E3-B30A0EB9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55F4A-D9F6-48B8-864A-2C98F33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036F-A8EC-43A0-85DD-A7EF88F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AC1EB-42BF-4EE4-8794-BB834996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D3409-749D-44BD-8E83-8E6E441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E1C68-F639-441C-A762-7EE31F3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3DB7A-97B9-4FBD-8822-F8EBD7E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8FECC-C19F-493E-8471-5E993F3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568F3-AECF-487D-ABE8-32D100A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D6757-58F2-4AA8-902B-090CB7C2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81C74-4E7A-4882-9015-F5080E4A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8F8FE-8C26-486D-9751-17495993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13B22-1E72-4200-87C7-C3BEB671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C727-176B-4055-86BA-9FCADB7A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DAD99-9441-49DB-852E-80A6AFA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DB2D2-DD4D-4942-A5F3-D805783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3C99E-5184-4357-B961-8E6C782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915B0-31F9-4F3B-936D-9001D37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17FEC-9E7D-4E3D-8BB4-B4A3DF5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8ABE6-4FD8-499A-B98B-BB4B9EA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8892F-C23A-489A-94BF-27F2213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F7C7D-9B03-4378-AD24-7986E82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89FE9-20E8-4600-91D1-0A01B86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047D6-8F08-409D-961D-57C6B5C9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54B6-C943-4E96-B5FB-3FF5EF3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B6AD3-8A18-45BB-8C92-5E6780FC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DED3C-00B3-49D4-8E3C-7463756F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8EF8A-FA3D-4BF9-BCAF-C81F78CB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36711-FF2B-461A-9508-5884B3DB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C3BC2-F308-4A42-A64E-6E4C2D3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AAF59-53A9-4BB4-9288-81B48DB9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6AA03-0CBD-42D5-8487-DAC4DAED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6CC96-7A22-401E-9C04-11C061D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6B8AE-7EA9-4473-83F8-6B1956B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4A84E-4148-4B8F-8C6E-B3C3857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77F-018B-4617-9333-663BCF5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32959-3CE0-45B2-AB38-9AA4B02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0CA7D-42F9-44BA-B054-0B2E1A91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42442-740F-451E-9366-2B8DCC1C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71619-955B-4B7E-A74F-462D7FD0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D421D-C43B-4016-A8D8-CFFF404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742C8-6922-4FF9-8231-115ACDA6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8B833-973E-4F47-8933-215DB0A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DFBF4-2970-4139-8A93-52F8035C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C918A-C12D-4AB0-AD6F-1546C5DB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8851C-36A2-4DB8-AC86-2426DD3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7EC-63D1-4B79-8FC2-22DFD958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1367-8D2E-4B12-A3EC-A5E9614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74DD2-5A14-40B0-A9EA-47B3B11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08CA5-7BDA-4574-B931-5971A26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A1C35-9B40-4D94-B0DC-B58419A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0A8DB-5147-4E51-95E7-247A2FF3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74B1A-3200-4203-ABBC-D574F569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AACB6-5226-46CC-A993-48C9BDF0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61E0E-A8BD-4B0D-A955-F0BB0101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FCECB-08B6-40BB-B2AD-94FC92C9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49DF2-95B8-467B-A77B-EDF4696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7C814-990C-4E71-853F-50DC4EB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4139-1BFB-45B9-BDF3-591B993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B064E-01BA-4FE7-8BCA-2DB9E29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14FDE-A04E-47A3-B1E6-EF31304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12EEF-70B3-45A4-8638-9AC528F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6CC87-D2A2-425A-8E98-A6F1BB2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7E01F-B93D-4C71-9B09-0B127F33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653B5-C412-4D3F-B778-1A45824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93FE8-C9F2-4D23-9FA2-243B68FB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8EB77-B41F-4CAD-BAB1-9949AC10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AC578-C121-40E1-A3F1-A4D38984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0A356-9D48-4661-B536-67025A7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D5E-A793-4D0D-A3AC-BAADF9D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E7590-07A1-4D8B-BB67-6727BCA8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F6A45-E682-4C9D-A6FE-1E29D24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E2292-0F2E-4070-A5B6-BD31DED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6040D-6395-44EE-8BD5-53C8CC5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99F0A-955C-497E-BF0F-2B40870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71C06-1B38-43CB-BF74-F94F7F7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F837F-45AA-4E8A-B9D9-0EC63B09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2B473-59DB-4C91-89A7-D131D270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F7FB2-A7FB-40B2-B911-D6608A9A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87BE6-D3B2-4504-943E-CBDAC1D0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BAA5-921B-4C96-BD0A-3ABF9685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AA4FE-86A1-46A1-8B0E-15540EA5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A1EC0-099B-4086-A8E1-70AB05D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32334-FE9A-46F0-86A9-82E9BB6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E3B53-51E0-4840-BA7C-FBE0DFA0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B000C-2738-4314-BAC0-D837908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CFB39-414F-4882-BCED-91C996C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8BC88-EF3D-40BA-9B3D-8D2492F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65B4E-10E3-42AC-A832-F42F09BF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5D17A8-FE31-4F5B-8EC1-7C8B4C3C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7352E-D18F-41EB-A610-97BA30DC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37D-3068-40D2-9789-8B5E8722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01C2B-EC25-442A-9BDC-E87D74A0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ADAB4-81A7-47CB-BFCE-7B5F99CC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0A2E1-E719-439A-9715-D1ADF84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38C9E-560F-4067-9120-D4BC0F1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A7793-0DBF-40C9-9ECC-4333722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32DD9-C1E7-4DD2-9303-B72050D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63325-03EA-462A-8138-DC18F69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480D0-8FD0-4CDC-8F20-81653B8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CB071-CA1E-4DBA-9AF9-42FF10B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87869-BBA7-4680-B154-38DCF02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98D7-B0B3-44A2-B088-6B07291E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83833-3B0B-47BE-8C5A-F7841C8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81A6C-D0F3-4758-A199-069932A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213BC-5190-4D50-BB68-B86E024A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3980-C3DB-4D96-ABBB-635FD3D2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8CB0-0D1D-4FEC-A0E4-18D1AC1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C5D3-E66F-43DF-A3C9-F671BC4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A307-F575-4EF9-B82A-B95BAD4F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FDF-3036-41E7-9CAF-BB5A1CD4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205F-8976-4E61-9147-EFCD728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373A-AA3B-4E86-B12D-2F5415D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A01D-6485-42E9-B2FF-E69E30D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4CF0-D916-4587-80F1-AED36345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8455-B796-4A94-94A4-15CA1AE9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D2C4-65AD-49C2-9D30-8EE7E7E8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B705-6FBE-4995-991C-5DE94E98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61D4-50A8-4505-BD3A-318B1058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E534-201B-4D93-804F-683B2317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1732-E99C-48BD-8155-AA600CCD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EBB-CDAB-41BA-8C96-B4F5CDD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2101-EAEA-4125-B3F8-FB053D8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682C-4585-4220-A4DA-B9CE7B91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1540-9FC6-46BE-9407-72A0096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33AB-4E73-42FE-92CD-8FA850A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E754-DAD5-438C-94B4-3EFFB40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F831-156E-4538-9420-330129F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A5D5-F67F-4727-B9AC-7D6AAD6E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F507-B2A2-47B2-9566-E3217CE3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C1A3-074B-495D-B852-C094645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CBA5-9389-4B4A-98AC-A079C560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850-5F11-41D7-9E11-83B5B38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FFEB-006A-4DB5-A95D-601F9BB5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EB83-D653-4F98-90FF-7E7E425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96F1-7B74-4FAA-9A1F-80F30E6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87C7-D176-4368-B545-99E9992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3DF5-357B-417E-A666-9DA8298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F41B-3B75-4BCE-88AC-10C3812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B494-851A-4F70-BDEC-813E759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01C0-2F58-4549-9BCD-5267E6F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65F7-4EF8-45F5-9406-CFC44F6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653E-0F25-4EF7-994C-FE1A69C5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20B-20B5-45F0-8A08-6D4F23E2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E293-4814-4F91-8181-143AAC9B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2119-29E0-472C-B972-934E516A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ACE1-8209-45AD-81AC-150CDAC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2C13-1BA6-4A8F-858D-B507CC5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205D-E11A-4459-B116-79F03D1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03798-5DC1-46B6-9356-97BB7CB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5C2F8-0731-4F48-AEB3-AE6E533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5DA4-16C4-42C3-80E1-F438202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7C45F-8C43-43E9-AE3F-24D08C7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712C-0186-445F-9BBB-FAE151C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D80-F6CE-4D2F-8833-B8A663D6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8892-646F-44C2-8582-39B195A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2000-69FA-40C9-B935-FC2FD9C2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BF26B-4875-4281-9C18-F47FC2B4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EBA53-2C6D-43F2-B344-5855633E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45F98-3619-4303-A45C-D3D11D1E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47E2-ACDE-4355-B83C-1FB108FE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46A3-706E-4C27-9371-F7B225D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9790-6548-4829-ABDE-6C91F2F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AAF9-DCFA-4DD8-870C-ADFDD189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F4F2C-FEA2-43D7-9DC5-EB2AF87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1AE-6B5E-4210-AD75-5B31AB3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85C0-4F12-4869-B51C-952F703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5D97-D533-4505-98B2-FBF43A3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BDF0-3D4F-4F51-B4EF-A9378983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9A37-BF4A-447F-816D-F4FCE91F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C24A-64B8-4259-AD0F-1CAA5DD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9ACD-6285-42EA-8E1D-C24400EC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8F10-ABF7-4431-B4CF-F62E2CF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0EA8-6132-43C8-BC4F-BFB570C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D138-B25D-4965-81B4-A1F5A6CF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120B-5410-4074-B5A8-DDE61BA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690-D653-4346-BE77-1E1CD0F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7536-89D4-42F5-B968-A6FD9A0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0E01-48FF-4A93-B7FD-90EDF8B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B9BA-827A-45C5-89C5-5727B04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FC25-78E7-4DC0-A283-8CB2BE5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7192-4BD9-45E6-B36C-DD5443C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3720-B9BF-4762-9015-C88504FC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8DBF-685D-44AC-A205-BF8DCEAB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60F8-718F-4B1E-897E-209E7D72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86041-CC98-470B-9552-4BDC225F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4F57-3E70-4860-B4A3-81E773F9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E4F-A1ED-4BFA-8D79-52F68400F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8AD-5A3A-490F-8F00-6547445D9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A88C-E8E2-4B32-9A68-8705E25827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0C06-52B7-451A-BF4F-E388D305B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4B9-1078-4B73-B574-80FE93C21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9F1E-BB3C-47F0-A98C-79C3003F0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250-DE42-48AD-BD1D-763D5EB1CF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CD0-F00E-4940-B0FB-DB69AFAA4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A985-2DE6-44D9-8017-3734FE9D3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3D2-4B84-44B4-82BC-D19EFC3A1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F03-4555-4DA5-ACCB-01AC67B3D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7B7-E477-4F02-966B-723EC6C20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26AD-1640-4BA7-9CFF-1768D9B05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44A-AE46-45EE-821B-B7519A06A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8A70-C1CE-424B-BFD3-B0667B1C6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327-BFDE-4A3D-8909-79C68F66A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FA67-95BB-49D9-944C-BFF824484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BD22-BF37-414C-B867-B25947B02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9F0-575C-49B4-8306-DFC3C89C8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8441-C9D7-4816-99D2-929494C04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A71-C4A3-493E-B282-C50F3AD02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A896-0231-4DC0-92B1-5009DA86D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F4D2-7056-43F5-9559-621096B92E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2E35-3B94-4A94-92B7-514B3012C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57CA-6C73-4A62-9517-A52529175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707D-418F-495F-9BDF-E7CE0AD1C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9B4-F994-4B3D-9508-2FF131ED0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928-5DE9-4308-BB1E-66632D3439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563D-A6F4-4AA8-A278-B21306A58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51C-CFF1-416F-A4A5-6DEF16033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1E8-E6A4-43F0-9013-48A6A55BE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989-85EA-41FA-AD9E-A2BA1AD3B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617-EE56-4A9D-923F-A16BCF703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EFA-2E3D-4646-BE88-F15B80791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748-0199-4C00-90E7-2B8DD6BA1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D118-C56E-47DC-B2FD-6C33C66B6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4F1-6235-4B7A-8E97-2A30EB0C8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EBD8-F579-41F0-A5A7-E598A70A5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D45-48FB-4B12-9830-E5CED7873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E5FB-6407-4C43-B20C-5A70D3A90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61840" y="2752560"/>
            <a:ext cx="74203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281160" y="181080"/>
            <a:ext cx="8581680" cy="649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252108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22740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11280" y="6149880"/>
            <a:ext cx="813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581600" cy="2276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8610" descr=""/>
          <p:cNvPicPr/>
          <p:nvPr/>
        </p:nvPicPr>
        <p:blipFill>
          <a:blip r:embed="rId2"/>
          <a:stretch/>
        </p:blipFill>
        <p:spPr>
          <a:xfrm>
            <a:off x="538200" y="3351240"/>
            <a:ext cx="8067600" cy="2238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95672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26040" y="227664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639200" y="21477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008080" y="363060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02040" y="3645000"/>
            <a:ext cx="1008360" cy="718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86760" y="363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036880" y="4437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5205240" y="44942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8172360" y="44942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976320"/>
            <a:ext cx="8562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38200" y="1276200"/>
            <a:ext cx="8067600" cy="430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24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268360" y="2736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12400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85128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19564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64328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95440" y="1157400"/>
            <a:ext cx="7953120" cy="4543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862680" y="18018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916360" y="2290680"/>
            <a:ext cx="576000" cy="374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804000" y="2278080"/>
            <a:ext cx="1081080" cy="401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2665440"/>
            <a:ext cx="1729080" cy="436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5435640" y="4595760"/>
            <a:ext cx="936720" cy="374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3822840" y="4984920"/>
            <a:ext cx="93636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79704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2632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9929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09480" y="2747880"/>
            <a:ext cx="7925040" cy="136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85960"/>
            <a:ext cx="8572320" cy="50860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1033560" y="2552760"/>
            <a:ext cx="7048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633240" y="838080"/>
            <a:ext cx="7877520" cy="51818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7" descr=""/>
          <p:cNvPicPr/>
          <p:nvPr/>
        </p:nvPicPr>
        <p:blipFill>
          <a:blip r:embed="rId2"/>
          <a:stretch/>
        </p:blipFill>
        <p:spPr>
          <a:xfrm>
            <a:off x="2300400" y="2328840"/>
            <a:ext cx="53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143920" cy="3590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458040" y="4581360"/>
            <a:ext cx="115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9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